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470D8-A938-42B4-AD6C-5724A24AA85A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6F086-4A2C-41BA-948B-8E2457730552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6BDA4-F835-483B-9F08-D55905FDBAC1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731-F5DE-4813-8393-E4916781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552-C930-4D07-B94B-DECC5E9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1FBA-C5DB-405F-9836-8BA3D85B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9F67A-CC04-4FD9-AF96-8AC7F7D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09371-20F1-4A16-ACA5-45BA1A51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4B00D-6EF3-41C8-8E01-61323C25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86A8E-F435-4AAB-8041-974F1FC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3FB4D-42D1-4921-A4A8-E915052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EEFAE-336F-4DEB-93DE-472FB096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DFE9E-6B73-43AE-936D-15CDCBF4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CFFB8-9C94-4311-ACBF-94744BBE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16C-9B27-4F88-A28D-C819D285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1F0-A831-4EA8-A2EC-5260E91D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597F-F793-448D-BDF6-35C63E0B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1FD-1FE7-4A2B-B402-DB660D4D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A2FC-0AFD-4009-A27A-E639512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86D-CB44-488A-958F-C6FF3E59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2FC-B147-4851-A123-4359D0FC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6A9-F394-445A-A776-A2736609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53E-9F7B-419F-A729-9F34A12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300-5268-40FC-9B1E-943A18C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D37-B13D-4F0C-8E33-029D0F6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59B-6A08-423B-B9F5-48016F6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CB76-26B4-47E2-9A6B-1A76C04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3239-3A20-47CD-AF3E-7162335D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C8A-CCF5-4006-AEFF-1054FB8D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24DF-1DE2-4924-A67E-CCF05BBD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C925-BAA4-4CF4-B33D-70CED7E1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1050-1C2D-42D2-B032-8132C086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FD60-C312-47D7-A4A7-326BC71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401B-7601-4063-85BD-2BBA75C9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051-144D-4363-B3BA-879BFB9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2225-FF6F-4E29-B99F-D073D4D7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2B02-A202-402F-BC00-3C32DE3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DF46-C10A-4FFD-AF26-1DFE251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4AEF-A6CE-4915-A5B1-BBA4CB6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839F-EB63-4CA0-A25E-FA1507D8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121F-C197-4174-BD5A-24FED3EC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5C99-355B-4F94-ADB9-C105780F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0665-3AFE-4101-BF94-E6B11D61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BB98-AB37-4E41-8EDC-BC9AFEC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050C-A8E8-42D7-A4E5-654ED4E7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9B0-BFE0-47BF-BCD0-6C357B9A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74D9-786F-4446-A43A-173E875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D3F1-DDE6-4C00-93D5-FA459B9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D8D6-4AD6-4545-8ED1-66657DC4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BDFEC-E2F0-460B-B730-F948DB7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8810-3197-43E5-A3AD-8DFB6D09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41DF-857B-45EC-82D0-C6FDB36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B789-D19E-439E-96EA-C12591F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2B3A-89ED-420D-85AD-BF5D233A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A694-80E0-464B-A61A-5011173D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50F3-B6BB-464C-B236-4C5ACB9E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C43-6C3B-4644-A64A-E187953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619F-F54F-4C0C-B5AE-C20DADC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1BF8-AB7F-486E-8C88-989518D3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3735F-0ABA-48A8-B878-1206BE9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C690-4CE7-4DFE-BE96-0BF04886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C648-E01C-464F-8831-D2AC7481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5F4B-B924-4B38-9D19-2E40409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9F67-A835-45D3-A877-8FAEB4A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53EE7-13C0-403F-9AD9-CFF3D20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18F1-4BCE-4417-942F-DB7C290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401C-9F81-4AB0-8E59-05D2B8E3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134-154B-4971-B9F0-9893A37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1FFB-02C8-4A58-88D6-B7D74E62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486B-F8A4-4A1D-A9DC-9FFD11C5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4F87-4F3B-406C-A9F3-73960FA8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8AD7-A9A0-4936-A8F3-60A13860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A6B55-7F6D-47C5-981B-BD3DF283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A8A0-C430-4F65-8D37-9844DED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8A57-36DF-4496-BF69-8019A97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C861-5D0C-4D98-A611-1AFAAC5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728D-AFAE-4C4A-8E16-8B7A2B6F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0EDAF-C12E-4785-B655-BBF4D61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28A-D923-4575-9358-50E5FB9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1CB3-6459-458D-B386-68821012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1D2C1-0662-4302-A2E0-69212CAE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74DC8-EDF0-4036-8743-4EBEAE17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7A20-8287-4E89-8C22-D8E79992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1A82-8047-439F-A36B-B0410EC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F6500-4715-4D74-A279-F14E8D4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C3AA-AC4B-4E9D-AE12-EC8591F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FC64-2E23-4949-9CC7-7CA9B952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EEB1-1AF4-4DFB-841D-443CA0A0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82296-A4A9-4A60-A8F0-FBFE3D8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1DE-2ADA-433B-BFE3-6284B4A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FE4EA-A9E1-43F5-AE9C-8AA79AE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F51FC-47DE-453A-8282-A4C5996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3A55-936F-42AA-8147-34D15551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9AA0-0A86-4AC4-A1E4-D2FAE3C7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626E-70E9-4A61-899A-EFC6F6F1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DE520-2F35-454E-9130-07B490F2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702DB-D9B0-4C60-87C8-2498BB9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A99AF-3DCF-4EB5-BB6C-17C56FB7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69586-71CB-4B85-89E6-A40B24A1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AD2A9-3219-4EF7-8CF6-AF111CB3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40D-B3B5-49D3-B414-24DD412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BC95D-60FD-4A64-9980-04854AFC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1C837-2896-43DC-B752-E5E523F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1D46D-0705-4EA3-ABD4-C8861A1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51D5A-B453-4C37-B1FD-8BCD854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498C-7E08-4A83-86EE-A20CA9A6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B447-C74B-461B-91C3-849DD64C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8EEFE-D2CC-43E8-BEFE-5C603F52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0433F-446B-45A0-8FDF-E3D150D9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43C08-991C-4680-A6A9-132D0DF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1B09C-26DD-450F-8794-CE601D82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E7425-FE6C-4318-A0BD-A2E162462E77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E5975-2A5E-4C91-9F0A-32E41AE6581F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9FA74-25B6-4EDC-B8CA-1AD3369F015E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57CA4-76AA-4055-B8DE-9264B1F013DE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E74BF-0EE5-461B-BFD0-3C1C58EC9F16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A7770-B405-4A6E-8087-07A8747B480A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3DCA2-7E53-4D05-880E-2BA2D46295DC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5BD3D-A240-4112-A058-0D7E46E2312B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B67B4-78D7-4C42-A50D-DA753B0C58CD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7097E-B431-4295-9DFC-66AFD8E6E61B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B35D3-1C00-490C-9662-C1DDF15FFCAF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E73C0-6911-46C2-8E6F-7DB724AD18B9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05AFD-6FA3-4D7D-B33B-504A4CDA5B6B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7526F-72C9-4A08-B565-5EE81311E0DB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D4988-D803-45E1-8221-9EDAB8D5D77D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C2478-181D-410C-A76E-0C369C381209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C6105-374D-474E-9578-D5F49198B275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598D6-6902-4C51-8F56-A2BD3776CA9A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384120" y="1328760"/>
            <a:ext cx="8454960" cy="1335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7f7f7f"/>
                </a:solidFill>
                <a:latin typeface="Franklin Gothic Book"/>
                <a:ea typeface="ＭＳ Ｐゴシック"/>
              </a:rPr>
              <a:t>Ar žurnalistas, pateikdamas tikrą informaciją, perteikia tikrovę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Skaitytojas pats renkasi, kokias naujienas skaityti, ir pagal tai gali susidaryti aiškesnį tikrovės įspūdį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avyzdžiui, skaitydamas kuo daugiau naujienų, pasisakymų ir vertinimų apie vieną įvykį ar tendenciją skaitytojas susidarys tikslesnį vaizdą nei tuo domėdamasis fragmentišk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57D14-E312-47B1-B57B-264B7944CFDE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1680" y="1947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iniasklaida yra darinys, padedantis susidaryti įspūdį apie tikrovę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Sakoma, kad kuo profesionalesnė žiniasklaidos priemonė, tuo tikslesnį tikrovės konstruktą ji pateiki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805B5-EA1F-4832-B082-360187FB88EF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168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Pasiskirstykite į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keturias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 „namų“ grupes išsiskaičiavę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pirmais-ketvirtais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Kiekviena „namų grupė“ gauna po dalį medžiagos apie skirtingus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tikrovės perteikimo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 trukdžius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(žr.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1 veiklos lapą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Padirbėję „namų“ grupėje persigrupuokite į „ekspertų“ grup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Išsamiai išnagrinėkite visus veiklos lape pateiktus veiksnius aiškindamiesi, kas ir kaip  trukdo žurnalistui objektyviai perteikti tikrovę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B78E1-126E-4E3D-964D-57A6B52A8BA7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560" y="1554120"/>
            <a:ext cx="8839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asiskirstykite poromis: A-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skaitytojas ir B-dienrašči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žurnalistas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Siūloma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pasirinkti naujieną, pateiktą naujienlaiškyje „Aktualijos! O ką manai Tu?“ (http://duomenys.ugdome.lt/?/veikla/aktualijos/med=15/240)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skaitytojas 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sidali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 mintimis, kokių faktų ar aplinkybių galėjo nepateikti žurnalistas, manydamas, kad jos nesvarbios įvykiui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B žurnalistas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atsako A skaitytojui paaiškindamas, su kokiais trukdžiais susidūrė rašydamas apie tikrą įvykį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o to apsikeiskite vaidmenimis: A mokinys tampa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žurnalistu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, o B mokinys – naujienos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 skaitytoju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9CFA4-648D-49D9-8D4E-3C0F432D5960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920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34136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Įsivaizduokite, kad už lango įvyko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eismo įvykis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. Tačiau Jūs tuo metu klausėtės mokytojo, žiūrėjote į lentą ir nematėte, kaip įvyko avarija. Kokias įvykio aplinkybes norėtumėte sužinoti? Ko klausinėtumėte liudininkų, kad galėtumėte aprašyti įvykį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Tai gali būti namų užduotis – parašyti naujieną apie tikrą, neseniai įvykusį 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eismo įvykį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rtimoje aplinkoj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Aptarkite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, ko išmok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te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per dvi pamokas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Žiniasklaida ir tikrovė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bei kaip sekėsi atlikti įdėmaus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skaitytojo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ir atsakingo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žurnalisto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vaidmenis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2DD1F-B567-4548-84C1-5F3CE38052BC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301680" y="1554120"/>
          <a:ext cx="8690040" cy="3078360"/>
        </p:xfrm>
        <a:graphic>
          <a:graphicData uri="http://schemas.openxmlformats.org/drawingml/2006/table">
            <a:tbl>
              <a:tblPr/>
              <a:tblGrid>
                <a:gridCol w="4487760"/>
                <a:gridCol w="4202280"/>
              </a:tblGrid>
              <a:tr h="100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as būdinga  žiniasklaidai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as būdinga tikrove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vyzdžiai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vyzdžiai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10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E583F-5B9D-482A-AE3B-FE0313905C68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301680" y="4797360"/>
            <a:ext cx="923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Kaip žiniasklaida ir tikrovė susijusi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Ar žurnalistas, pateikdamas informaciją kaip naujieną, perteikia tikrov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030200" y="1700280"/>
            <a:ext cx="4961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Naujiena yra kaip paveikslas. Paveikslas nėra tikrovė, jis tėra tikrovės konstruktas, kurį nutapė dailininkas. Naujiena taip pat nėra tikrovė – tai žurnalisto pateikiamas tikrovės konstrukta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6B99D-C880-4204-A05F-67955B07BB73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144360" y="17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5"/>
          <p:cNvSpPr/>
          <p:nvPr/>
        </p:nvSpPr>
        <p:spPr>
          <a:xfrm>
            <a:off x="304920" y="5877000"/>
            <a:ext cx="75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strukta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tyse sukurtas dalyk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"/>
          <p:cNvSpPr/>
          <p:nvPr/>
        </p:nvSpPr>
        <p:spPr>
          <a:xfrm>
            <a:off x="547560" y="4978440"/>
            <a:ext cx="34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. Van Gogas, „Batai“, 1886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Šaltinis: Wikimedia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-79200" y="262080"/>
            <a:ext cx="96930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trenka tam tikrai auditorijai svarbiausius įvyki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nka apie juos informaciją: kalba su žmonėmis, skaito dokumentus ir p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trenka, jo nuomone, svarbiausius faktus, pasisakymus, vertinim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agal žiniasklaidos priemonės pobūdį parenka nuotraukų, vaizdo įraš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3673E-5292-45CB-AC3E-410C51411087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60640"/>
            <a:ext cx="868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smeninės nuostato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Įstatymai ir etikos kodeks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iniasklaidos priemonės vidaus politika, priklausymas verslo struktūroms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A7223-1D53-4F8D-9972-D8A44933EDAD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349000"/>
            <a:ext cx="868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Geografiniai trukdžiai – atstumai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Laiko apribojim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70DAC-2A42-4BDD-9BE2-6A70E50E3B4E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77300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Fotoaparatas arba vaizdo filmavimo kamera tik įrėmina tikrovę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okalbio garso įrašas neperteikia visko, kas vyksta interviu me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Vaizdo ir garso montažas gali kardinaliai pakeisti tikrovę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Tiesioginis eteris taip pat negali perteikti tikrovė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B2FB1-A9A2-4A3A-8898-FD4085BA1DF4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Naujieną rengia žurnalistas, tačiau prieš publikuojant ją peržiūri ir redaktori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nėra buvęs įvykio vietoj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gali išbraukti faktus, pasisakymus ir vertinimus, kurie jam atrodo nesvarbū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gali ištrinti teksto pabaig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3FD98-E3E6-4BD7-BE95-BE8F677D3880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341000"/>
            <a:ext cx="86868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Būdamas pačioje įvykio vietoje žmogus nemato visos tikrovės: jis nežino visų reikšmingų faktų ir aplinkybi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mogus koncentruoja žvilgsnį į vieną situaciją, o tuo metu už jo akiračio gali formuotis kita situacija ir dar svarbesnės jos aplinkybė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Kartais televizija geriau išryškina aplinkybes, nei mato įvykio vietoje esantis stebėtoj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402F1-5C39-41F9-95F3-E37CB306ADD7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0:17:08Z</dcterms:created>
  <dc:creator>Egidijus Jurgelionis</dc:creator>
  <dc:description/>
  <dc:language>en-US</dc:language>
  <cp:lastModifiedBy>R</cp:lastModifiedBy>
  <dcterms:modified xsi:type="dcterms:W3CDTF">2016-01-06T19:24:39Z</dcterms:modified>
  <cp:revision>66</cp:revision>
  <dc:subject/>
  <dc:title>Žiniasklaida ir tikrovė</dc:title>
</cp:coreProperties>
</file>